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794-A930-49BB-9153-8AAF793D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D5E-245E-4AA7-BC39-ECFA0B07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73D-0EA2-486D-A21C-1C093272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0BE-386E-4931-9610-67637A84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241-F5B6-4D6A-8E1B-E62C959F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574-5403-4493-9954-2295CFD2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136-943C-4C06-B903-BFC9A3EB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6C7-4671-4CDB-9212-B1A1972B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A98-D66E-4DC3-9407-8C342DFA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254-DEAE-4C8C-96C3-E281917C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563-0B79-456E-89D9-60F85C91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7E4-23B5-4619-B987-919F43A4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9251-ED8F-4C60-B377-FB413E5BB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:  Validity Versus Prec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8144"/>
          <a:stretch/>
        </p:blipFill>
        <p:spPr>
          <a:xfrm>
            <a:off x="380880" y="609480"/>
            <a:ext cx="83822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685800" y="533520"/>
            <a:ext cx="77724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84872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92468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380880" y="457200"/>
            <a:ext cx="84582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678168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86600" y="601992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44359"/>
          <a:stretch/>
        </p:blipFill>
        <p:spPr>
          <a:xfrm>
            <a:off x="609480" y="838080"/>
            <a:ext cx="7772400" cy="3124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696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1680" y="3429000"/>
            <a:ext cx="800100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7925040" cy="83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792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609480" y="380880"/>
            <a:ext cx="784872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0" y="5943600"/>
            <a:ext cx="6095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5715000"/>
            <a:ext cx="1676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7797"/>
          <a:stretch/>
        </p:blipFill>
        <p:spPr>
          <a:xfrm>
            <a:off x="609480" y="380880"/>
            <a:ext cx="7772400" cy="4496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762012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6225"/>
          <a:stretch/>
        </p:blipFill>
        <p:spPr>
          <a:xfrm>
            <a:off x="533520" y="380880"/>
            <a:ext cx="8076960" cy="403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72213" r="0" b="18165"/>
          <a:stretch/>
        </p:blipFill>
        <p:spPr>
          <a:xfrm>
            <a:off x="533520" y="4419720"/>
            <a:ext cx="8076960" cy="598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9480" y="5029200"/>
            <a:ext cx="7848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81845" r="0" b="9746"/>
          <a:stretch/>
        </p:blipFill>
        <p:spPr>
          <a:xfrm>
            <a:off x="533520" y="2133720"/>
            <a:ext cx="7772400" cy="533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75000" y="2514600"/>
            <a:ext cx="5757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48237" r="0" b="36225"/>
          <a:stretch/>
        </p:blipFill>
        <p:spPr>
          <a:xfrm>
            <a:off x="533520" y="121932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762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4T15:44:07Z</dcterms:modified>
  <cp:revision>39</cp:revision>
  <dc:subject/>
  <dc:title>PowerPoint Presentation</dc:title>
</cp:coreProperties>
</file>